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BEB2-17BB-48A3-A8ED-0EFCA3F32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2257-1FB3-4BEA-9E84-CDAE7B39F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E573-94FA-4655-8E17-5545B3721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A177-DBDD-43C8-8DCA-A35451B28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762D6-A9F1-47E7-9E44-36049AE02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83DBC-4244-47C0-809F-BEEED4637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64FD5-8A85-453E-AD74-14ECEE1CD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C1816-F52A-4264-96A9-6C47FADA5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ED84B-C096-4BFB-B1D6-FD4C73313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FE88A-F8BB-49B5-9FD9-182E5718D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7D4DB-CEA9-48A7-B4A2-02B53E38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CB2D-55D3-4D59-9C88-F7F36C07D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6ED1B-2704-4FAD-A616-5B9DDBAD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99F9D-5D45-4C70-AB1B-C0827E0D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DE23C-5693-4787-9112-615DB33A4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08F60-DABF-443D-8EDA-F985B6E8A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BA66A-DF7B-4943-A020-7DE53C1E6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C7063-4DF1-4986-B523-9E88B7E72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0F33A-6698-4B2E-85BB-D07C61896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45F20-9E4F-40A2-AF22-A9C45D66A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C319D-BB83-4854-84AB-754381328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2BDC9-0245-411B-B28F-53D1093DA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95A8-87C4-48B3-A696-AD10E2F54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E5C8F-D78D-4E4F-B61D-A22677A5A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D1870-1D60-4EBF-81E6-418A497B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2D4FB-2A58-4C2D-BEFA-D0B92B9C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4B936-A712-44B8-9AD5-3AB8DF62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9015D-491D-4BAF-A172-04A4DC76C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76F7F-65D0-4AC4-9DE3-C10668655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28640-4271-44E8-8E02-563997BB6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EB042-B672-4390-968B-BE9A0430B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0330D-B9FB-4E49-8551-C522A7F3F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414AE-AC1D-4D23-91E0-803D4929D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7743-6332-44F6-BA5F-DA9496D57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C08BF-E038-49BA-84BE-399C1D87A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458B9-4E86-4D4E-83E3-4C76518F6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4EEE0-37CA-4A06-99DB-72B596DCB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D4C2A-3B82-48DA-A8EE-08FCF1A3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77856-BAB8-4A83-8214-7C6A8D46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7E04E-5032-489E-AEC3-4F5DDCB8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7F479-D4E8-49AA-9AA0-CF006960F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50A5C-C98C-4851-A463-CAB5CF0AF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FE261-CFAA-4018-B006-0AA25A025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6A27-9AB8-49FA-A9E6-B80407893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D394-03DA-4E28-A602-F74F0FC5C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C181-A113-4BE8-9854-0D349777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B13A-B633-4F2E-BA86-20E0CB70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6FE1-AE7E-4E72-ABFA-12D9261E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4/08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DesignSkills- Week2- La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CA4FB-0FA6-40D1-A65A-B7224C671CB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4/08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CPSC203-DesignSkills- Week2- La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43165-0ABC-4447-89AD-CAE68BCBE2C9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4/08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CPSC203-DesignSkills- Week2- La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B015A-B942-4B38-A68A-EB756FF54585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4/08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DesignSkills- Week2- La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29195-3908-44AE-9994-0C2F1B2AD1B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603360" y="719280"/>
            <a:ext cx="7864200" cy="20174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2819520"/>
            <a:ext cx="7854840" cy="26668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ceff"/>
                </a:solidFill>
                <a:latin typeface="Constantia"/>
              </a:rPr>
              <a:t>Week 2 Lab2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fafc"/>
                </a:solidFill>
                <a:latin typeface="Constantia"/>
              </a:rPr>
              <a:t>ER Diagram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fafc"/>
                </a:solidFill>
                <a:latin typeface="Constantia"/>
              </a:rPr>
              <a:t>Dina A. Said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fafc"/>
                </a:solidFill>
                <a:latin typeface="Constantia"/>
              </a:rPr>
              <a:t>dasaid@ucalgary.ca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ntity-Relations (ER) Diagra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18160" indent="-21816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lustrates the interrelationships between entities in a databas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4/0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DesignSkills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395A6-F8FF-46C2-8954-1B5FFCAC85F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6"/>
          <p:cNvSpPr/>
          <p:nvPr/>
        </p:nvSpPr>
        <p:spPr>
          <a:xfrm>
            <a:off x="925200" y="3048120"/>
            <a:ext cx="171504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t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t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8"/>
          <p:cNvSpPr/>
          <p:nvPr/>
        </p:nvSpPr>
        <p:spPr>
          <a:xfrm>
            <a:off x="5802840" y="2819520"/>
            <a:ext cx="176400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l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li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lier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9"/>
          <p:cNvSpPr/>
          <p:nvPr/>
        </p:nvSpPr>
        <p:spPr>
          <a:xfrm>
            <a:off x="3363840" y="4267080"/>
            <a:ext cx="176544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t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li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pment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ce per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traight Connector 11"/>
          <p:cNvSpPr/>
          <p:nvPr/>
        </p:nvSpPr>
        <p:spPr>
          <a:xfrm flipV="1">
            <a:off x="5104800" y="3557520"/>
            <a:ext cx="685800" cy="14716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traight Connector 13"/>
          <p:cNvSpPr/>
          <p:nvPr/>
        </p:nvSpPr>
        <p:spPr>
          <a:xfrm flipH="1" flipV="1">
            <a:off x="2438280" y="4266720"/>
            <a:ext cx="914400" cy="7621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Example: DVD rental Store System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4/0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DesignSkills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652D6-E57F-414E-B84E-4922894F889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" descr="http://wiki.ucalgary.ca/images/0/0a/ERDiagram.jpg"/>
          <p:cNvPicPr/>
          <p:nvPr/>
        </p:nvPicPr>
        <p:blipFill>
          <a:blip r:embed="rId1"/>
          <a:stretch/>
        </p:blipFill>
        <p:spPr>
          <a:xfrm>
            <a:off x="1447920" y="1631880"/>
            <a:ext cx="579096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ase Stud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an appointment system in a clinic, where a patient can request to make an appointment to see a certain doctor at a specific time. Additionally, a doctor can use that system to record the timings where he would be available to see his patients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on reserving an appointment, the receptionist has to make sure that the doctor speaks a language that the patient knows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patient requests a specific device to be in the clinic, the receptionist should make sure that this device is available in the clinic to be reserve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so, the receptionist should print  information  of the reserved appointment including the date, time, and clinic locatio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4/0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DesignSkills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1C473-BFC3-484A-B07C-DBDE51E4963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4/0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DesignSkills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F4EA7-0F52-4EE5-9274-D9C420F41AD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7"/>
          <p:cNvSpPr/>
          <p:nvPr/>
        </p:nvSpPr>
        <p:spPr>
          <a:xfrm>
            <a:off x="3972960" y="4191120"/>
            <a:ext cx="156132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t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ient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rth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guage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0"/>
          <p:cNvSpPr/>
          <p:nvPr/>
        </p:nvSpPr>
        <p:spPr>
          <a:xfrm>
            <a:off x="3972960" y="914400"/>
            <a:ext cx="156132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to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rth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rtif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guage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2"/>
          <p:cNvSpPr/>
          <p:nvPr/>
        </p:nvSpPr>
        <p:spPr>
          <a:xfrm>
            <a:off x="6639840" y="3505320"/>
            <a:ext cx="15613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Language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3"/>
          <p:cNvSpPr/>
          <p:nvPr/>
        </p:nvSpPr>
        <p:spPr>
          <a:xfrm>
            <a:off x="1375920" y="762120"/>
            <a:ext cx="190728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ailable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to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14"/>
          <p:cNvSpPr/>
          <p:nvPr/>
        </p:nvSpPr>
        <p:spPr>
          <a:xfrm>
            <a:off x="1304640" y="2362320"/>
            <a:ext cx="171828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oint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ient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to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id/Not Pa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nic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6"/>
          <p:cNvSpPr/>
          <p:nvPr/>
        </p:nvSpPr>
        <p:spPr>
          <a:xfrm>
            <a:off x="163800" y="5181480"/>
            <a:ext cx="20548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n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nic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traight Connector 18"/>
          <p:cNvSpPr/>
          <p:nvPr/>
        </p:nvSpPr>
        <p:spPr>
          <a:xfrm flipH="1" flipV="1">
            <a:off x="3276360" y="1371600"/>
            <a:ext cx="68580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20"/>
          <p:cNvSpPr/>
          <p:nvPr/>
        </p:nvSpPr>
        <p:spPr>
          <a:xfrm flipV="1">
            <a:off x="3048120" y="2484000"/>
            <a:ext cx="914400" cy="6397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traight Connector 22"/>
          <p:cNvSpPr/>
          <p:nvPr/>
        </p:nvSpPr>
        <p:spPr>
          <a:xfrm>
            <a:off x="3032280" y="3654360"/>
            <a:ext cx="930240" cy="9176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traight Connector 24"/>
          <p:cNvSpPr/>
          <p:nvPr/>
        </p:nvSpPr>
        <p:spPr>
          <a:xfrm flipH="1">
            <a:off x="685440" y="4114800"/>
            <a:ext cx="609480" cy="10666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traight Connector 26"/>
          <p:cNvSpPr/>
          <p:nvPr/>
        </p:nvSpPr>
        <p:spPr>
          <a:xfrm>
            <a:off x="5562720" y="2819520"/>
            <a:ext cx="1066680" cy="9903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traight Connector 28"/>
          <p:cNvSpPr/>
          <p:nvPr/>
        </p:nvSpPr>
        <p:spPr>
          <a:xfrm flipV="1">
            <a:off x="5562000" y="4105440"/>
            <a:ext cx="1066680" cy="13809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4/0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DesignSkills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62D9B-1222-43E2-BFE2-2D95993B0F2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6"/>
          <p:cNvSpPr/>
          <p:nvPr/>
        </p:nvSpPr>
        <p:spPr>
          <a:xfrm>
            <a:off x="2678400" y="990720"/>
            <a:ext cx="20548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n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nic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Down Arrow 9"/>
          <p:cNvSpPr/>
          <p:nvPr/>
        </p:nvSpPr>
        <p:spPr>
          <a:xfrm>
            <a:off x="3505320" y="2362320"/>
            <a:ext cx="685800" cy="914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0"/>
          <p:cNvSpPr/>
          <p:nvPr/>
        </p:nvSpPr>
        <p:spPr>
          <a:xfrm>
            <a:off x="846000" y="3352680"/>
            <a:ext cx="111780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n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nic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1"/>
          <p:cNvSpPr/>
          <p:nvPr/>
        </p:nvSpPr>
        <p:spPr>
          <a:xfrm>
            <a:off x="4734720" y="3276720"/>
            <a:ext cx="162540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ice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ice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nic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traight Connector 13"/>
          <p:cNvSpPr/>
          <p:nvPr/>
        </p:nvSpPr>
        <p:spPr>
          <a:xfrm flipH="1" flipV="1">
            <a:off x="1971720" y="3814560"/>
            <a:ext cx="2752560" cy="199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4"/>
          <p:cNvSpPr/>
          <p:nvPr/>
        </p:nvSpPr>
        <p:spPr>
          <a:xfrm>
            <a:off x="647640" y="5105520"/>
            <a:ext cx="662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because every device exists in only one clinic but clinic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have multiple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5105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What if the doctor speaks more than one language?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4/0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DesignSkills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FDA5F-73BE-4E45-BA48-083258C2F83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6"/>
          <p:cNvSpPr/>
          <p:nvPr/>
        </p:nvSpPr>
        <p:spPr>
          <a:xfrm>
            <a:off x="3972960" y="914400"/>
            <a:ext cx="156132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to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rth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rtif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guage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7"/>
          <p:cNvSpPr/>
          <p:nvPr/>
        </p:nvSpPr>
        <p:spPr>
          <a:xfrm>
            <a:off x="6639840" y="3505320"/>
            <a:ext cx="15613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Language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traight Connector 9"/>
          <p:cNvSpPr/>
          <p:nvPr/>
        </p:nvSpPr>
        <p:spPr>
          <a:xfrm>
            <a:off x="5545080" y="2484360"/>
            <a:ext cx="1084320" cy="16210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4/0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DesignSkills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83A33-2D1C-4DE8-BE13-92FD3617E81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6"/>
          <p:cNvSpPr/>
          <p:nvPr/>
        </p:nvSpPr>
        <p:spPr>
          <a:xfrm>
            <a:off x="465840" y="914400"/>
            <a:ext cx="1398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to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rth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rtif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7"/>
          <p:cNvSpPr/>
          <p:nvPr/>
        </p:nvSpPr>
        <p:spPr>
          <a:xfrm>
            <a:off x="6411240" y="2438280"/>
            <a:ext cx="15613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Language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8"/>
          <p:cNvSpPr/>
          <p:nvPr/>
        </p:nvSpPr>
        <p:spPr>
          <a:xfrm>
            <a:off x="3211200" y="1523880"/>
            <a:ext cx="207360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ctor-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Docto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Language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traight Connector 10"/>
          <p:cNvSpPr/>
          <p:nvPr/>
        </p:nvSpPr>
        <p:spPr>
          <a:xfrm flipV="1">
            <a:off x="1873080" y="2057040"/>
            <a:ext cx="1327320" cy="2890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5"/>
          <p:cNvSpPr/>
          <p:nvPr/>
        </p:nvSpPr>
        <p:spPr>
          <a:xfrm>
            <a:off x="1853640" y="5105520"/>
            <a:ext cx="41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alled many to many 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7"/>
          <p:cNvSpPr/>
          <p:nvPr/>
        </p:nvSpPr>
        <p:spPr>
          <a:xfrm>
            <a:off x="5295960" y="2262240"/>
            <a:ext cx="1104840" cy="7761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erci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 an ER Diagram for an online travel agency system. A new user is required to create a new profile with a username and password. After logging in the system, the user inquires about different flights. The user can perform booking, changing, and canceling flight reservation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4617b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have three main tables; users, flights, and booked-fligh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4617b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nk what information should be included in each table and what the relationships among them should b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4617b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and your ER diagram to contain information about planes, airlines, and preferred meal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4/0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DesignSkills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B0E06-6779-4424-860F-D56CBA4132D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15:23:28Z</dcterms:created>
  <dc:creator>Dina</dc:creator>
  <dc:description/>
  <dc:language>en-US</dc:language>
  <cp:lastModifiedBy>dasaid</cp:lastModifiedBy>
  <dcterms:modified xsi:type="dcterms:W3CDTF">2009-04-08T17:26:00Z</dcterms:modified>
  <cp:revision>231</cp:revision>
  <dc:subject/>
  <dc:title>CPSC 203</dc:title>
</cp:coreProperties>
</file>